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3BB-6D22-436F-9B18-7246B853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0D5-F303-4EEF-B8FF-78170DBC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3402000" y="579600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Line 47"/>
          <p:cNvSpPr/>
          <p:nvPr/>
        </p:nvSpPr>
        <p:spPr>
          <a:xfrm>
            <a:off x="900000" y="5759280"/>
            <a:ext cx="270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900000" y="1440000"/>
            <a:ext cx="2700360" cy="6121440"/>
            <a:chOff x="900000" y="1440000"/>
            <a:chExt cx="2700360" cy="6121440"/>
          </a:xfrm>
        </p:grpSpPr>
        <p:sp>
          <p:nvSpPr>
            <p:cNvPr id="3" name="Line 54"/>
            <p:cNvSpPr/>
            <p:nvPr/>
          </p:nvSpPr>
          <p:spPr>
            <a:xfrm>
              <a:off x="900000" y="1800360"/>
              <a:ext cx="26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5"/>
            <p:cNvSpPr/>
            <p:nvPr/>
          </p:nvSpPr>
          <p:spPr>
            <a:xfrm>
              <a:off x="900000" y="421344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900000" y="169236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900000" y="7309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900000" y="7201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152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260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224928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3348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3240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152360" y="1692360"/>
              <a:ext cx="219564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368360" y="1908000"/>
            <a:ext cx="1763640" cy="518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260360" y="1800360"/>
            <a:ext cx="1979640" cy="540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312840" y="4356000"/>
            <a:ext cx="725400" cy="93672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306360" y="2755800"/>
            <a:ext cx="723960" cy="70164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2270160" y="734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2270160" y="1405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3546360" y="2484360"/>
            <a:ext cx="91440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1029960" y="5761080"/>
            <a:ext cx="1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195480" y="630072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46:45Z</dcterms:modified>
  <cp:revision>38</cp:revision>
  <dc:subject/>
  <dc:title>PowerPoint プレゼンテーション</dc:title>
</cp:coreProperties>
</file>