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34" descr=""/>
          <p:cNvPicPr/>
          <p:nvPr/>
        </p:nvPicPr>
        <p:blipFill>
          <a:blip r:embed="rId2"/>
          <a:stretch/>
        </p:blipFill>
        <p:spPr>
          <a:xfrm>
            <a:off x="1079640" y="195120"/>
            <a:ext cx="9186840" cy="59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8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6" descr=""/>
          <p:cNvPicPr/>
          <p:nvPr/>
        </p:nvPicPr>
        <p:blipFill>
          <a:blip r:embed="rId3"/>
          <a:stretch/>
        </p:blipFill>
        <p:spPr>
          <a:xfrm>
            <a:off x="1432080" y="1433520"/>
            <a:ext cx="8476920" cy="433404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1"/>
          <p:cNvGrpSpPr/>
          <p:nvPr/>
        </p:nvGrpSpPr>
        <p:grpSpPr>
          <a:xfrm>
            <a:off x="98280" y="1440000"/>
            <a:ext cx="9801360" cy="4319280"/>
            <a:chOff x="98280" y="1440000"/>
            <a:chExt cx="9801360" cy="4319280"/>
          </a:xfrm>
        </p:grpSpPr>
        <p:sp>
          <p:nvSpPr>
            <p:cNvPr id="5" name="Rectangle 107"/>
            <p:cNvSpPr/>
            <p:nvPr/>
          </p:nvSpPr>
          <p:spPr>
            <a:xfrm>
              <a:off x="1439640" y="1440000"/>
              <a:ext cx="8460000" cy="4319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08"/>
            <p:cNvSpPr/>
            <p:nvPr/>
          </p:nvSpPr>
          <p:spPr>
            <a:xfrm>
              <a:off x="1782360" y="1800360"/>
              <a:ext cx="7739280" cy="3598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48"/>
            <p:cNvSpPr/>
            <p:nvPr/>
          </p:nvSpPr>
          <p:spPr>
            <a:xfrm>
              <a:off x="8802720" y="3427560"/>
              <a:ext cx="718920" cy="19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1058760"/>
                  <a:tab algn="l" pos="2117880"/>
                  <a:tab algn="l" pos="3176640"/>
                  <a:tab algn="l" pos="4235400"/>
                  <a:tab algn="l" pos="5294160"/>
                  <a:tab algn="l" pos="6353280"/>
                  <a:tab algn="l" pos="7412040"/>
                  <a:tab algn="l" pos="8470800"/>
                  <a:tab algn="l" pos="9529920"/>
                  <a:tab algn="l" pos="10588680"/>
                </a:tabLst>
              </a:pPr>
              <a:r>
                <a:rPr b="1" lang="ja-JP" sz="800" spc="-1" strike="noStrike">
                  <a:solidFill>
                    <a:srgbClr val="808080"/>
                  </a:solidFill>
                  <a:latin typeface="Arial"/>
                </a:rPr>
                <a:t>郵便番号枠付き封筒をお選びの場合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58760"/>
                  <a:tab algn="l" pos="2117880"/>
                  <a:tab algn="l" pos="3176640"/>
                  <a:tab algn="l" pos="4235400"/>
                  <a:tab algn="l" pos="5294160"/>
                  <a:tab algn="l" pos="6353280"/>
                  <a:tab algn="l" pos="7412040"/>
                  <a:tab algn="l" pos="8470800"/>
                  <a:tab algn="l" pos="9529920"/>
                  <a:tab algn="l" pos="10588680"/>
                </a:tabLst>
              </a:pPr>
              <a:r>
                <a:rPr b="1" lang="ja-JP" sz="800" spc="-1" strike="noStrike">
                  <a:solidFill>
                    <a:srgbClr val="808080"/>
                  </a:solidFill>
                  <a:latin typeface="Arial"/>
                </a:rPr>
                <a:t>この部分は避けてお作り下さい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59"/>
            <p:cNvSpPr/>
            <p:nvPr/>
          </p:nvSpPr>
          <p:spPr>
            <a:xfrm>
              <a:off x="98280" y="3571920"/>
              <a:ext cx="1028520" cy="84132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AutoShape 160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42:53Z</dcterms:modified>
  <cp:revision>25</cp:revision>
  <dc:subject/>
  <dc:title>PowerPoint プレゼンテーション</dc:title>
</cp:coreProperties>
</file>