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435640" y="-728640"/>
            <a:ext cx="5047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4710240" y="232740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609480" y="38736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079640" y="1079640"/>
            <a:ext cx="3781440" cy="2665440"/>
            <a:chOff x="1079640" y="1079640"/>
            <a:chExt cx="3781440" cy="2665440"/>
          </a:xfrm>
        </p:grpSpPr>
        <p:sp>
          <p:nvSpPr>
            <p:cNvPr id="3" name="Line 22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1079640" y="24130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079640" y="3381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079640" y="3489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297036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4605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1330200" y="1330200"/>
              <a:ext cx="327528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35640" y="-82440"/>
            <a:ext cx="50472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7"/>
          <p:cNvSpPr/>
          <p:nvPr/>
        </p:nvSpPr>
        <p:spPr>
          <a:xfrm>
            <a:off x="1547640" y="1547640"/>
            <a:ext cx="2845080" cy="1729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52"/>
          <p:cNvSpPr/>
          <p:nvPr/>
        </p:nvSpPr>
        <p:spPr>
          <a:xfrm>
            <a:off x="1440000" y="1440000"/>
            <a:ext cx="3060720" cy="1944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96"/>
          <p:cNvSpPr/>
          <p:nvPr/>
        </p:nvSpPr>
        <p:spPr>
          <a:xfrm>
            <a:off x="108000" y="25560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3027240" y="3537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301608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4792680" y="15476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31:18Z</dcterms:modified>
  <cp:revision>14</cp:revision>
  <dc:subject/>
  <dc:title>PowerPoint プレゼンテーション</dc:title>
</cp:coreProperties>
</file>