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40538" cy="113395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2000" y="452160"/>
            <a:ext cx="6155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42000" y="2653560"/>
            <a:ext cx="6155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2000" y="6089040"/>
            <a:ext cx="6155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42000" y="452160"/>
            <a:ext cx="6155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42000" y="2653560"/>
            <a:ext cx="3003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496320" y="2653560"/>
            <a:ext cx="3003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342000" y="6089040"/>
            <a:ext cx="3003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3496320" y="6089040"/>
            <a:ext cx="3003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000" y="452160"/>
            <a:ext cx="6155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000" y="2653560"/>
            <a:ext cx="19818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423160" y="2653560"/>
            <a:ext cx="19818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04680" y="2653560"/>
            <a:ext cx="19818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342000" y="6089040"/>
            <a:ext cx="19818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2423160" y="6089040"/>
            <a:ext cx="19818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4504680" y="6089040"/>
            <a:ext cx="19818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000" y="452160"/>
            <a:ext cx="6155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342000" y="2653560"/>
            <a:ext cx="61556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000" y="452160"/>
            <a:ext cx="6155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2000" y="2653560"/>
            <a:ext cx="61556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000" y="452160"/>
            <a:ext cx="6155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000" y="2653560"/>
            <a:ext cx="30038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96320" y="2653560"/>
            <a:ext cx="30038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2000" y="452160"/>
            <a:ext cx="6155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342000" y="452160"/>
            <a:ext cx="6155640" cy="877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000" y="452160"/>
            <a:ext cx="6155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2000" y="2653560"/>
            <a:ext cx="3003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496320" y="2653560"/>
            <a:ext cx="30038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2000" y="6089040"/>
            <a:ext cx="3003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000" y="452160"/>
            <a:ext cx="6155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000" y="2653560"/>
            <a:ext cx="30038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6320" y="2653560"/>
            <a:ext cx="3003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496320" y="6089040"/>
            <a:ext cx="3003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42000" y="452160"/>
            <a:ext cx="6155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42000" y="2653560"/>
            <a:ext cx="3003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96320" y="2653560"/>
            <a:ext cx="3003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42000" y="6089040"/>
            <a:ext cx="6155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1079640" y="1079640"/>
            <a:ext cx="4686120" cy="9181800"/>
            <a:chOff x="1079640" y="1079640"/>
            <a:chExt cx="4686120" cy="9181800"/>
          </a:xfrm>
        </p:grpSpPr>
        <p:sp>
          <p:nvSpPr>
            <p:cNvPr id="1" name="Line 7"/>
            <p:cNvSpPr/>
            <p:nvPr/>
          </p:nvSpPr>
          <p:spPr>
            <a:xfrm>
              <a:off x="1079640" y="1332000"/>
              <a:ext cx="4686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8"/>
            <p:cNvSpPr/>
            <p:nvPr/>
          </p:nvSpPr>
          <p:spPr>
            <a:xfrm>
              <a:off x="1079640" y="1440000"/>
              <a:ext cx="4686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9"/>
            <p:cNvSpPr/>
            <p:nvPr/>
          </p:nvSpPr>
          <p:spPr>
            <a:xfrm>
              <a:off x="1079640" y="10004400"/>
              <a:ext cx="4686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10"/>
            <p:cNvSpPr/>
            <p:nvPr/>
          </p:nvSpPr>
          <p:spPr>
            <a:xfrm>
              <a:off x="1079640" y="9896400"/>
              <a:ext cx="4686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11"/>
            <p:cNvSpPr/>
            <p:nvPr/>
          </p:nvSpPr>
          <p:spPr>
            <a:xfrm>
              <a:off x="1079640" y="5667480"/>
              <a:ext cx="4686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12"/>
            <p:cNvSpPr/>
            <p:nvPr/>
          </p:nvSpPr>
          <p:spPr>
            <a:xfrm>
              <a:off x="1332000" y="1079640"/>
              <a:ext cx="0" cy="91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13"/>
            <p:cNvSpPr/>
            <p:nvPr/>
          </p:nvSpPr>
          <p:spPr>
            <a:xfrm>
              <a:off x="1440000" y="1079640"/>
              <a:ext cx="0" cy="91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14"/>
            <p:cNvSpPr/>
            <p:nvPr/>
          </p:nvSpPr>
          <p:spPr>
            <a:xfrm>
              <a:off x="5505480" y="1079640"/>
              <a:ext cx="0" cy="91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15"/>
            <p:cNvSpPr/>
            <p:nvPr/>
          </p:nvSpPr>
          <p:spPr>
            <a:xfrm>
              <a:off x="5397480" y="1079640"/>
              <a:ext cx="0" cy="91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16"/>
            <p:cNvSpPr/>
            <p:nvPr/>
          </p:nvSpPr>
          <p:spPr>
            <a:xfrm>
              <a:off x="3417840" y="1079640"/>
              <a:ext cx="0" cy="91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7"/>
            <p:cNvSpPr/>
            <p:nvPr/>
          </p:nvSpPr>
          <p:spPr>
            <a:xfrm>
              <a:off x="1332000" y="1332000"/>
              <a:ext cx="4174920" cy="86724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Rectangle 20"/>
          <p:cNvSpPr/>
          <p:nvPr/>
        </p:nvSpPr>
        <p:spPr>
          <a:xfrm>
            <a:off x="1547640" y="1547640"/>
            <a:ext cx="3743640" cy="824076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Rectangle 19"/>
          <p:cNvSpPr/>
          <p:nvPr/>
        </p:nvSpPr>
        <p:spPr>
          <a:xfrm>
            <a:off x="1440000" y="1440000"/>
            <a:ext cx="3958920" cy="845640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AutoShape 42"/>
          <p:cNvSpPr/>
          <p:nvPr/>
        </p:nvSpPr>
        <p:spPr>
          <a:xfrm>
            <a:off x="108000" y="2717640"/>
            <a:ext cx="1028520" cy="70344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AutoShape 43"/>
          <p:cNvSpPr/>
          <p:nvPr/>
        </p:nvSpPr>
        <p:spPr>
          <a:xfrm>
            <a:off x="108000" y="178596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AutoShape 44"/>
          <p:cNvSpPr/>
          <p:nvPr/>
        </p:nvSpPr>
        <p:spPr>
          <a:xfrm>
            <a:off x="3459240" y="100630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AutoShape 45"/>
          <p:cNvSpPr/>
          <p:nvPr/>
        </p:nvSpPr>
        <p:spPr>
          <a:xfrm>
            <a:off x="3449520" y="102888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AutoShape 46"/>
          <p:cNvSpPr/>
          <p:nvPr/>
        </p:nvSpPr>
        <p:spPr>
          <a:xfrm>
            <a:off x="108000" y="379404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Text Box 47"/>
          <p:cNvSpPr/>
          <p:nvPr/>
        </p:nvSpPr>
        <p:spPr>
          <a:xfrm>
            <a:off x="1044720" y="10385280"/>
            <a:ext cx="46796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" name="Picture 49" descr=""/>
          <p:cNvPicPr/>
          <p:nvPr/>
        </p:nvPicPr>
        <p:blipFill>
          <a:blip r:embed="rId2"/>
          <a:stretch/>
        </p:blipFill>
        <p:spPr>
          <a:xfrm>
            <a:off x="5581800" y="8261280"/>
            <a:ext cx="1212840" cy="1525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31T09:14:23Z</dcterms:created>
  <dc:creator/>
  <dc:description/>
  <dc:language>en-US</dc:language>
  <cp:lastModifiedBy>canvas</cp:lastModifiedBy>
  <dcterms:modified xsi:type="dcterms:W3CDTF">2015-11-24T05:20:36Z</dcterms:modified>
  <cp:revision>4</cp:revision>
  <dc:subject/>
  <dc:title>PowerPoint プレゼンテーション</dc:title>
</cp:coreProperties>
</file>