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9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19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06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21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ouhuku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AutoShape 129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30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31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32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Text Box 134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2:01Z</dcterms:modified>
  <cp:revision>16</cp:revision>
  <dc:subject/>
  <dc:title>PowerPoint プレゼンテーション</dc:title>
</cp:coreProperties>
</file>