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A326-F9CC-400E-BA50-886F5948E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AD53-9B25-456A-A069-6EE23CE2A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11414160" cy="8281800"/>
            <a:chOff x="1079640" y="1079640"/>
            <a:chExt cx="11414160" cy="8281800"/>
          </a:xfrm>
        </p:grpSpPr>
        <p:sp>
          <p:nvSpPr>
            <p:cNvPr id="1" name="Line 22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079640" y="521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9104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330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43820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678348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2126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12234960" y="1079640"/>
              <a:ext cx="0" cy="82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330200" y="1330200"/>
              <a:ext cx="10906200" cy="777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47"/>
          <p:cNvSpPr/>
          <p:nvPr/>
        </p:nvSpPr>
        <p:spPr>
          <a:xfrm>
            <a:off x="1546200" y="1547640"/>
            <a:ext cx="10476000" cy="734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5"/>
          <p:cNvSpPr/>
          <p:nvPr/>
        </p:nvSpPr>
        <p:spPr>
          <a:xfrm>
            <a:off x="1440000" y="1440000"/>
            <a:ext cx="10691640" cy="756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8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9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6858000" y="9171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6848640" y="1028880"/>
            <a:ext cx="247320" cy="24732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53"/>
          <p:cNvSpPr/>
          <p:nvPr/>
        </p:nvSpPr>
        <p:spPr>
          <a:xfrm>
            <a:off x="4410000" y="94932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54" descr=""/>
          <p:cNvPicPr/>
          <p:nvPr/>
        </p:nvPicPr>
        <p:blipFill>
          <a:blip r:embed="rId2"/>
          <a:stretch/>
        </p:blipFill>
        <p:spPr>
          <a:xfrm>
            <a:off x="9205920" y="9348840"/>
            <a:ext cx="218772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8:57Z</dcterms:modified>
  <cp:revision>18</cp:revision>
  <dc:subject/>
  <dc:title>PowerPoint プレゼンテーション</dc:title>
</cp:coreProperties>
</file>