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A1E-E20A-4BD0-9063-1CCA95C5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683-E24C-4D27-BCE3-80F612FE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1"/>
          <p:cNvSpPr/>
          <p:nvPr/>
        </p:nvSpPr>
        <p:spPr>
          <a:xfrm>
            <a:off x="1438200" y="1440000"/>
            <a:ext cx="9252000" cy="13104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547640" y="1547640"/>
            <a:ext cx="9036360" cy="12889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8486640" y="14851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7352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445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887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91080" y="149954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2:16Z</dcterms:modified>
  <cp:revision>20</cp:revision>
  <dc:subject/>
  <dc:title>PowerPoint プレゼンテーション</dc:title>
</cp:coreProperties>
</file>