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B59-0A88-4634-BF15-83A21003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9C20-E683-4220-A54E-34AEEBA34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1"/>
          <p:cNvSpPr/>
          <p:nvPr/>
        </p:nvSpPr>
        <p:spPr>
          <a:xfrm>
            <a:off x="1438200" y="1440000"/>
            <a:ext cx="9252000" cy="13104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6"/>
          <p:cNvSpPr/>
          <p:nvPr/>
        </p:nvSpPr>
        <p:spPr>
          <a:xfrm>
            <a:off x="1547640" y="1547640"/>
            <a:ext cx="9036360" cy="1288908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8486640" y="1485108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27352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7445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108000" y="38876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3691080" y="149954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2:03Z</dcterms:modified>
  <cp:revision>20</cp:revision>
  <dc:subject/>
  <dc:title>PowerPoint プレゼンテーション</dc:title>
</cp:coreProperties>
</file>