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12131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95560" y="685440"/>
            <a:ext cx="2666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3848-3855-4B40-A71A-B4880C140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7A6-DCFF-4081-8192-EA4D34290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95560" y="685800"/>
            <a:ext cx="26668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4188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11800" y="283860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716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4188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11800" y="6513840"/>
            <a:ext cx="273312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848844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71600" y="483840"/>
            <a:ext cx="8488440" cy="93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70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21120" y="651384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483840"/>
            <a:ext cx="84884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21120" y="2838600"/>
            <a:ext cx="414216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600" y="6513840"/>
            <a:ext cx="8488440" cy="33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74"/>
              </a:spcBef>
              <a:buNone/>
              <a:tabLst>
                <a:tab algn="l" pos="0"/>
                <a:tab algn="l" pos="1231920"/>
                <a:tab algn="l" pos="2463840"/>
                <a:tab algn="l" pos="3695760"/>
                <a:tab algn="l" pos="4927680"/>
                <a:tab algn="l" pos="6159600"/>
                <a:tab algn="l" pos="7391520"/>
                <a:tab algn="l" pos="8623440"/>
                <a:tab algn="l" pos="98553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7273800" cy="9974160"/>
            <a:chOff x="1079640" y="1079640"/>
            <a:chExt cx="7273800" cy="9974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6062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106869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107967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471312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7988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8096400" y="1079640"/>
              <a:ext cx="0" cy="9974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6766200" cy="9466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1"/>
          <p:cNvSpPr/>
          <p:nvPr/>
        </p:nvSpPr>
        <p:spPr>
          <a:xfrm>
            <a:off x="1440000" y="1440000"/>
            <a:ext cx="6551640" cy="92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547640" y="1547640"/>
            <a:ext cx="6336000" cy="903636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6416640" y="1101420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627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751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4753080" y="108522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47671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20720" y="111585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8:12Z</dcterms:modified>
  <cp:revision>20</cp:revision>
  <dc:subject/>
  <dc:title>PowerPoint プレゼンテーション</dc:title>
</cp:coreProperties>
</file>