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D194-CABF-401B-99DE-33A0C055F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CB9A-A73F-4D68-971C-0085DE94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7273800" cy="9974160"/>
            <a:chOff x="1079640" y="1079640"/>
            <a:chExt cx="727380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71312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8096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676620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1"/>
          <p:cNvSpPr/>
          <p:nvPr/>
        </p:nvSpPr>
        <p:spPr>
          <a:xfrm>
            <a:off x="1440000" y="1440000"/>
            <a:ext cx="6551640" cy="9251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6"/>
          <p:cNvSpPr/>
          <p:nvPr/>
        </p:nvSpPr>
        <p:spPr>
          <a:xfrm>
            <a:off x="1547640" y="1547640"/>
            <a:ext cx="6336000" cy="903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6416640" y="1101420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08000" y="2627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751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4753080" y="1085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47671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1620720" y="111585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8:26Z</dcterms:modified>
  <cp:revision>20</cp:revision>
  <dc:subject/>
  <dc:title>PowerPoint プレゼンテーション</dc:title>
</cp:coreProperties>
</file>