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31675" cy="9431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224000" y="685440"/>
            <a:ext cx="4410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CE30-F7DD-4E1D-9586-C416F5DEE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91B2-E89D-46BD-8D19-8FAFE6BF2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224000" y="685800"/>
            <a:ext cx="4410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980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989840" y="220680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0660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2980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7989840" y="5064120"/>
            <a:ext cx="35154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109184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06600" y="376200"/>
            <a:ext cx="1091844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1360" y="506412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6600" y="376200"/>
            <a:ext cx="1091844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3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660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01360" y="2206800"/>
            <a:ext cx="53280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600" y="5064120"/>
            <a:ext cx="109184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9974160" cy="7273800"/>
            <a:chOff x="1079640" y="1079640"/>
            <a:chExt cx="9974160" cy="727380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471312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7988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8096400"/>
              <a:ext cx="9974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604512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1068696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1079676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9466560" cy="676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57"/>
          <p:cNvSpPr/>
          <p:nvPr/>
        </p:nvSpPr>
        <p:spPr>
          <a:xfrm>
            <a:off x="1438200" y="1438200"/>
            <a:ext cx="9252000" cy="65516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49"/>
          <p:cNvSpPr/>
          <p:nvPr/>
        </p:nvSpPr>
        <p:spPr>
          <a:xfrm>
            <a:off x="1547640" y="1547640"/>
            <a:ext cx="9036360" cy="6336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49" descr=""/>
          <p:cNvPicPr/>
          <p:nvPr/>
        </p:nvPicPr>
        <p:blipFill>
          <a:blip r:embed="rId2"/>
          <a:stretch/>
        </p:blipFill>
        <p:spPr>
          <a:xfrm>
            <a:off x="8488440" y="8318520"/>
            <a:ext cx="2187360" cy="1062000"/>
          </a:xfrm>
          <a:prstGeom prst="rect">
            <a:avLst/>
          </a:prstGeom>
          <a:ln w="0">
            <a:noFill/>
          </a:ln>
        </p:spPr>
      </p:pic>
      <p:sp>
        <p:nvSpPr>
          <p:cNvPr id="15" name="AutoShape 50"/>
          <p:cNvSpPr/>
          <p:nvPr/>
        </p:nvSpPr>
        <p:spPr>
          <a:xfrm>
            <a:off x="108000" y="257328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1"/>
          <p:cNvSpPr/>
          <p:nvPr/>
        </p:nvSpPr>
        <p:spPr>
          <a:xfrm>
            <a:off x="108000" y="162396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2"/>
          <p:cNvSpPr/>
          <p:nvPr/>
        </p:nvSpPr>
        <p:spPr>
          <a:xfrm>
            <a:off x="6086520" y="81565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3"/>
          <p:cNvSpPr/>
          <p:nvPr/>
        </p:nvSpPr>
        <p:spPr>
          <a:xfrm>
            <a:off x="6100920" y="10080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4"/>
          <p:cNvSpPr/>
          <p:nvPr/>
        </p:nvSpPr>
        <p:spPr>
          <a:xfrm>
            <a:off x="108000" y="3618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5"/>
          <p:cNvSpPr/>
          <p:nvPr/>
        </p:nvSpPr>
        <p:spPr>
          <a:xfrm>
            <a:off x="3692520" y="84628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27:43Z</dcterms:modified>
  <cp:revision>20</cp:revision>
  <dc:subject/>
  <dc:title>PowerPoint プレゼンテーション</dc:title>
</cp:coreProperties>
</file>