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7491413" cy="943133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74400" y="376200"/>
            <a:ext cx="6742080" cy="157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74400" y="2206800"/>
            <a:ext cx="674208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74400" y="5064120"/>
            <a:ext cx="674208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74400" y="376200"/>
            <a:ext cx="6742080" cy="157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74400" y="2206800"/>
            <a:ext cx="329004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829320" y="2206800"/>
            <a:ext cx="329004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374400" y="5064120"/>
            <a:ext cx="329004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3829320" y="5064120"/>
            <a:ext cx="329004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74400" y="376200"/>
            <a:ext cx="6742080" cy="157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74400" y="2206800"/>
            <a:ext cx="217080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654280" y="2206800"/>
            <a:ext cx="217080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933800" y="2206800"/>
            <a:ext cx="217080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374400" y="5064120"/>
            <a:ext cx="217080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2654280" y="5064120"/>
            <a:ext cx="217080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4933800" y="5064120"/>
            <a:ext cx="217080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74400" y="376200"/>
            <a:ext cx="6742080" cy="157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374400" y="2206800"/>
            <a:ext cx="6742080" cy="546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74400" y="376200"/>
            <a:ext cx="6742080" cy="157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74400" y="2206800"/>
            <a:ext cx="6742080" cy="546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74400" y="376200"/>
            <a:ext cx="6742080" cy="157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74400" y="2206800"/>
            <a:ext cx="3290040" cy="546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29320" y="2206800"/>
            <a:ext cx="3290040" cy="546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74400" y="376200"/>
            <a:ext cx="6742080" cy="157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374400" y="376200"/>
            <a:ext cx="6742080" cy="73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74400" y="376200"/>
            <a:ext cx="6742080" cy="157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74400" y="2206800"/>
            <a:ext cx="329004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29320" y="2206800"/>
            <a:ext cx="3290040" cy="546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74400" y="5064120"/>
            <a:ext cx="329004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74400" y="376200"/>
            <a:ext cx="6742080" cy="157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74400" y="2206800"/>
            <a:ext cx="3290040" cy="546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29320" y="2206800"/>
            <a:ext cx="329004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829320" y="5064120"/>
            <a:ext cx="329004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74400" y="376200"/>
            <a:ext cx="6742080" cy="157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74400" y="2206800"/>
            <a:ext cx="329004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29320" y="2206800"/>
            <a:ext cx="329004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74400" y="5064120"/>
            <a:ext cx="674208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7"/>
          <p:cNvGrpSpPr/>
          <p:nvPr/>
        </p:nvGrpSpPr>
        <p:grpSpPr>
          <a:xfrm>
            <a:off x="1079640" y="1079640"/>
            <a:ext cx="5330520" cy="7273800"/>
            <a:chOff x="1079640" y="1079640"/>
            <a:chExt cx="5330520" cy="7273800"/>
          </a:xfrm>
        </p:grpSpPr>
        <p:sp>
          <p:nvSpPr>
            <p:cNvPr id="1" name="Line 24"/>
            <p:cNvSpPr/>
            <p:nvPr/>
          </p:nvSpPr>
          <p:spPr>
            <a:xfrm>
              <a:off x="1079640" y="1330200"/>
              <a:ext cx="53305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Line 25"/>
            <p:cNvSpPr/>
            <p:nvPr/>
          </p:nvSpPr>
          <p:spPr>
            <a:xfrm>
              <a:off x="1079640" y="1438200"/>
              <a:ext cx="53305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26"/>
            <p:cNvSpPr/>
            <p:nvPr/>
          </p:nvSpPr>
          <p:spPr>
            <a:xfrm>
              <a:off x="1079640" y="4713120"/>
              <a:ext cx="53305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Line 27"/>
            <p:cNvSpPr/>
            <p:nvPr/>
          </p:nvSpPr>
          <p:spPr>
            <a:xfrm>
              <a:off x="1079640" y="7988400"/>
              <a:ext cx="53305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Line 28"/>
            <p:cNvSpPr/>
            <p:nvPr/>
          </p:nvSpPr>
          <p:spPr>
            <a:xfrm>
              <a:off x="1079640" y="8096400"/>
              <a:ext cx="53305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Line 29"/>
            <p:cNvSpPr/>
            <p:nvPr/>
          </p:nvSpPr>
          <p:spPr>
            <a:xfrm>
              <a:off x="1330200" y="1079640"/>
              <a:ext cx="0" cy="7273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30"/>
            <p:cNvSpPr/>
            <p:nvPr/>
          </p:nvSpPr>
          <p:spPr>
            <a:xfrm>
              <a:off x="1438200" y="1079640"/>
              <a:ext cx="0" cy="7273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Line 31"/>
            <p:cNvSpPr/>
            <p:nvPr/>
          </p:nvSpPr>
          <p:spPr>
            <a:xfrm>
              <a:off x="3741840" y="1079640"/>
              <a:ext cx="0" cy="7273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Line 32"/>
            <p:cNvSpPr/>
            <p:nvPr/>
          </p:nvSpPr>
          <p:spPr>
            <a:xfrm>
              <a:off x="6045120" y="1079640"/>
              <a:ext cx="0" cy="7273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Line 33"/>
            <p:cNvSpPr/>
            <p:nvPr/>
          </p:nvSpPr>
          <p:spPr>
            <a:xfrm>
              <a:off x="6153120" y="1079640"/>
              <a:ext cx="0" cy="7273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34"/>
            <p:cNvSpPr/>
            <p:nvPr/>
          </p:nvSpPr>
          <p:spPr>
            <a:xfrm>
              <a:off x="1330200" y="1330200"/>
              <a:ext cx="4822920" cy="67662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Rectangle 48"/>
          <p:cNvSpPr/>
          <p:nvPr/>
        </p:nvSpPr>
        <p:spPr>
          <a:xfrm>
            <a:off x="1547640" y="1547640"/>
            <a:ext cx="4392720" cy="6336000"/>
          </a:xfrm>
          <a:prstGeom prst="rect">
            <a:avLst/>
          </a:prstGeom>
          <a:solidFill>
            <a:srgbClr val="ffffff"/>
          </a:solidFill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Rectangle 56"/>
          <p:cNvSpPr/>
          <p:nvPr/>
        </p:nvSpPr>
        <p:spPr>
          <a:xfrm>
            <a:off x="1438200" y="1438200"/>
            <a:ext cx="4608720" cy="655164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" name="Picture 42" descr=""/>
          <p:cNvPicPr/>
          <p:nvPr/>
        </p:nvPicPr>
        <p:blipFill>
          <a:blip r:embed="rId2"/>
          <a:stretch/>
        </p:blipFill>
        <p:spPr>
          <a:xfrm>
            <a:off x="5156280" y="8294760"/>
            <a:ext cx="2187360" cy="1062000"/>
          </a:xfrm>
          <a:prstGeom prst="rect">
            <a:avLst/>
          </a:prstGeom>
          <a:ln w="0">
            <a:noFill/>
          </a:ln>
        </p:spPr>
      </p:pic>
      <p:sp>
        <p:nvSpPr>
          <p:cNvPr id="15" name="AutoShape 43"/>
          <p:cNvSpPr/>
          <p:nvPr/>
        </p:nvSpPr>
        <p:spPr>
          <a:xfrm>
            <a:off x="108000" y="2573280"/>
            <a:ext cx="1028520" cy="703440"/>
          </a:xfrm>
          <a:prstGeom prst="wedgeRoundRectCallout">
            <a:avLst>
              <a:gd name="adj1" fmla="val 88736"/>
              <a:gd name="adj2" fmla="val -49324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AutoShape 44"/>
          <p:cNvSpPr/>
          <p:nvPr/>
        </p:nvSpPr>
        <p:spPr>
          <a:xfrm>
            <a:off x="108000" y="1623960"/>
            <a:ext cx="1028520" cy="57168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AutoShape 45"/>
          <p:cNvSpPr/>
          <p:nvPr/>
        </p:nvSpPr>
        <p:spPr>
          <a:xfrm>
            <a:off x="3773520" y="813276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AutoShape 46"/>
          <p:cNvSpPr/>
          <p:nvPr/>
        </p:nvSpPr>
        <p:spPr>
          <a:xfrm>
            <a:off x="3787920" y="100800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AutoShape 47"/>
          <p:cNvSpPr/>
          <p:nvPr/>
        </p:nvSpPr>
        <p:spPr>
          <a:xfrm>
            <a:off x="108000" y="3618000"/>
            <a:ext cx="1028520" cy="720720"/>
          </a:xfrm>
          <a:prstGeom prst="wedgeRoundRectCallout">
            <a:avLst>
              <a:gd name="adj1" fmla="val 68365"/>
              <a:gd name="adj2" fmla="val -33481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Text Box 48"/>
          <p:cNvSpPr/>
          <p:nvPr/>
        </p:nvSpPr>
        <p:spPr>
          <a:xfrm>
            <a:off x="360360" y="843912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5T06:15:57Z</dcterms:created>
  <dc:creator/>
  <dc:description/>
  <dc:language>en-US</dc:language>
  <cp:lastModifiedBy>canvas</cp:lastModifiedBy>
  <dcterms:modified xsi:type="dcterms:W3CDTF">2015-11-24T05:25:34Z</dcterms:modified>
  <cp:revision>4</cp:revision>
  <dc:subject/>
  <dc:title>PowerPoint プレゼンテーション</dc:title>
</cp:coreProperties>
</file>